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B492-A789-4FB8-BB09-0119DA762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34B9-622A-474B-8307-6B840F451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E630-8D39-4494-890E-EF35C7CBE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D426-59E0-4669-B2B7-735ED5111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B0CA-598B-4623-BA2A-D45F23D45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3400-DB81-4D94-8C23-200D9B821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7A10-3539-4BAF-8C2C-A02205D11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638C-D1A3-418C-A457-B27B6358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0DA9-C203-4F0F-8E33-E3353F850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3B45-4C82-48DC-B605-BD866500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C74D-F2A5-491A-A647-96EFFDCD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346A-01EF-415D-A1D7-FD744F70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17890-E37F-4037-B2D0-680356E1A0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295280"/>
            <a:ext cx="3733920" cy="685800"/>
          </a:xfrm>
          <a:prstGeom prst="cloudCallout">
            <a:avLst>
              <a:gd name="adj1" fmla="val -38902"/>
              <a:gd name="adj2" fmla="val 160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2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4713120"/>
            <a:ext cx="3581280" cy="4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 re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4-11-07T16:47:07Z</dcterms:modified>
  <cp:revision>43</cp:revision>
  <dc:subject/>
  <dc:title>PowerPoint Presentation</dc:title>
</cp:coreProperties>
</file>