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2D0218-889E-4D4A-9CB7-E544EF8942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A1AE34-2F19-4AC9-A7B0-8ACC33D220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8B88D5-9BB2-46FB-B498-A011BA0E40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519447-8A36-48A5-93B7-400F9C1BB8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EB39C8A-BDF0-4F02-A105-4D986A7667E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6E0B3B-D479-486B-837E-CE262124BE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0B8531-E06F-4855-A774-9A0E6E2DB2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A1719C-669C-4DC8-9813-AEBF419A77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FB89A8-5B80-43DA-A583-0C6559376A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3DAC52-F12A-4BA4-8A8E-1A2967DB37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6D833E-1E95-4247-8247-E69E6AC600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F1297C-4939-4910-BBF3-7087C54212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BA72A2-A006-401D-A685-59C2245661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02A0E2-ED56-4454-9022-D25FDA5FDB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EDD325-C462-44F6-AE46-47BDFD9303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20C05FF-877A-434F-9D87-61A30F39166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CE0257B-DFE4-42F0-BAF2-5B192BCA0ED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85894E-D0ED-4C90-B74A-4AEB7C96AF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C7B5FC-8DFC-4AEC-B3BF-12DDDB89CA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082BF4-B188-4AFC-AB3C-36E3FAF06C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53FC08-D73E-438A-A9CB-8ACF5943C6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5AB290-43D3-42EE-9D4A-FE3E245CDE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B49093-BFA6-453F-885D-709612B70B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EAEC59-BAC9-4CC2-960E-99641622DC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E13B16-4C2D-465F-A5B5-5D869A06D1A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AD3F1D-EB2F-4014-98D6-7D7E58B2141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0AFF739-46F7-41A3-B2D9-318DE57B575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5DDCFC2-FA5D-4183-B0C8-66AB400098B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998035-019D-4B10-8253-30797B609072}"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3E5E25-DF4A-4058-97AE-C9B15D4EFD47}"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35CD0B-9FA0-4D06-818B-C1B5329EF451}"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5248B4-0FAF-403D-BAB6-A40A76B3DF4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35772F-93B5-4A2A-8F6F-CFFDDC43D9ED}"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B615EA-6AFA-44A0-AF51-12C17C9A8FEE}"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CA0A51-C049-4131-82C0-437DAEA7B161}"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95F643-4D6F-4F60-A82D-669AD06A0649}"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701E07-3DE1-4E98-8BE0-022DADD64278}"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A8D1B2-ECED-45F2-8885-AA224124CA41}"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5E2489-44AC-4092-8D61-178DE3190A19}"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7CF1EC-BC20-4A70-823D-D9E4AB479F35}"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488BF7-7A52-4BF4-9E77-0363A5A56F0C}"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BA0115-36A8-44AE-BAA5-6956C209A682}"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53A92D-7CDE-4541-A1C4-8AAF75C22124}"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088BFD-34A7-4314-9269-6933B6AC8227}"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FAB442-9448-4ADB-B115-B1D5A38D3605}"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2D2105-6F8A-4115-BD82-76BCC83D6821}"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0D0936-A133-4827-A4DF-30C01E71A686}"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EF165C-5CAA-4F9F-B7C1-D2F442678603}"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E83B0D-EE43-4E0A-BDB4-3790AC1ECA9F}"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371E80-0654-4C17-BEF1-6F351489846D}"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A70244-D2F5-4916-8478-1DCCD0CC386E}"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810B3E-E2C8-4C08-92E0-00683E474C8B}"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48F214-D462-46D4-ADE9-197F7F8A2392}"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518FB7F-1D2B-4D00-A892-E8E418B03CBD}"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D87681-5657-4D3D-B5D8-82F4A36BBD78}"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B862E7-907B-4447-875F-822A83B8F3B8}"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728DF9-36E4-422F-BA1A-4FFFD0908550}"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6F194E-D41F-4FCC-8604-C5A9B3B8C923}"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8EDF68-F257-40DE-8B58-F735EF834BC3}"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45ED42-8302-4752-BF59-FC7AC00E5235}"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F56812-C4EB-4ED8-9C64-5219665DD837}"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927B31-14E8-42C3-ACF5-CDC058A1166F}"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7EA5EC-AB6F-4749-8A7A-C30C6025BB84}"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1898AD-4F08-4EDF-9B54-AEDBD4A50F6A}"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A35E3B-4CF0-4ABB-BC12-051FB2A26502}"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2CF82D-B4F9-4D02-A7B8-6AAA57F742B7}"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1EF1E9-7777-49E7-AB56-0A2BC4ECC373}"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24F107-A09E-4FA9-80C7-EF8CE6565E4E}"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8E94EA-96F9-4533-A9D0-E6BECAFFB3E3}"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B5B394-114E-4C8A-8633-821C9E65460C}"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FDA687-4581-4CBC-93A7-5B8B28AD2E40}"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52B91E-ECED-495B-BBB2-4E28FDC7C2FB}"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A945FB-1D1F-41E2-9FB4-E28372FFAA6A}"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2F720F-4768-4B56-AFED-5672498A3C50}"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8E0803B-ECAE-47CE-B863-D4D260E31146}"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2B5D24-C753-4E32-9EB2-E76F1A79788E}"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DB310E-CF01-4E59-A11F-DEBF3E87AC45}"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04B0964-D044-49EC-ABEF-534C7F19A3BB}"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E77BC0-A67C-480A-A359-F705A5475B27}"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ED8129-5B0E-49AB-94F8-F95B7C9874C3}"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B135AE-CF0A-412D-8C28-8E53AEFDAD6E}"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982CFE-DEAC-4DC5-B342-BE0BED71B531}"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6DC86D-CE73-4D9B-AF0A-DF84E2F66314}"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8B3A9C-C60F-4AD0-B9F6-281693DD3868}"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40D900-ADA3-4E98-AE02-9F663DF2C56E}"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B9A093D-AE2C-4AB1-92A9-EFF958423A47}"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535683-570D-484A-A554-61EF10651B5D}"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DF7D41-738D-4CF6-93B3-094024DF06B3}"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562D59-FB51-4FE6-A7A2-A39D705C2044}"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135A22-2AE1-4668-A855-9C1D9750322B}"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23DBED-8C06-4AD7-B76A-A0B7477C7848}"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8957915-5D77-41AD-A364-BFD735261E83}"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65A967-EFC8-47F4-BEF5-9B2524381211}"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E95624-38CC-489B-8C1B-627EC4E9511F}"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AE5328-7FDB-404E-B667-C896E254EA0B}"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4B1D98-C348-40F8-B077-93D5C9D89418}"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F4B8F7B-ABD8-46C4-BA08-17CB89E45D37}"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9B8A87-7908-4D06-ADB3-28573DE48EC0}"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58C224-A827-4820-AB04-527FC1C126A5}"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5B5F7D-E628-4CA8-A5DA-65A179D586DF}"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FEFB96-CA47-454E-8CBD-5836149FFF62}"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9BDA8B-9ED2-4F81-BFE9-5E71D3D7326B}"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7F1174-A699-4309-AF8A-6AB41F94F7C7}"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EBF4FF8-9A6A-4E08-AEEE-F49485621DD9}"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9857AE-3199-42EF-84F1-039BF7A58FA9}"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1E094E-82BC-4E0F-96DC-521F2E331B6A}"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A80875-5BD9-4204-9B1F-509672945ACB}"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102FD8E-EFD6-4206-99F0-5EC579CC12B1}"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E7F116-D667-4219-89BF-7844B486BB33}"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02E3F8B-D86E-4DDC-9320-FE70AD2BD7E3}"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72B436-C6DF-432B-B51A-605B88438798}"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A4E105-1897-4149-ACBD-F3DE6BBE7C58}"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372434-8B38-462A-B78A-6E7DB150C8CE}"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3FDB2D-7A33-41EC-9C0D-8F506EE8D3DF}"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5A9AC2-E7AA-4ADC-84CC-FDF2D1A040C6}"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283E91-D9C8-419C-9714-F9265C3FBD43}"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03662E-119B-453B-A925-4BB27A8CC205}"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0FCD14-2F2B-4EAA-B8AF-57FAF5CD495E}"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5465AF-CC7C-48B9-8E4D-C3BEAA455860}"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BBC705-3D21-4155-8749-FCA2A9F1FA9E}"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461FFF-4666-4ED7-B92C-3EF709A2A5BE}"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1BD8E3-FC55-4C66-BFDD-D5730667E557}"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BC2429-092C-4E50-BC94-2E8B92EC63C3}"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F314AD-6B74-4AF6-982F-E2DB6E7676AE}"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CB4BD7-F03B-43E4-9327-059A0D8FD440}"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E0C196A-EB61-4FAD-A711-605C0E82E6CB}"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029A9D-34CC-4C5E-ABF2-51D11330F593}"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974574-EC0C-4643-B832-358BED14C652}"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12C22D-8B5C-4486-A1ED-005707B494A7}"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131EB2-D938-45C2-B6D9-102212BF33BD}"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51C0FE-7FB6-4387-B23D-75A09B142B62}"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BDC12D-0C66-45E4-A12B-DE00F35DF1CF}"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71B434-80B1-4B43-8D80-571E04DFF1BC}"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FBC012-343E-4A3D-807A-5FC17A2B20EF}"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4078AB-E21A-48D1-993C-8411FA9E07CA}"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28DBC8-672F-4218-A5CC-3FC8768CED4E}"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8E8554-E234-437B-A8E7-A8AEF1F1C981}"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06D751-5BE5-49DF-B99D-2F5572F86EC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3927C3-9266-42F7-B3D9-3BF53A33DA7F}"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A4D0EB-1D1F-434C-888D-995E3AA94C9D}"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B8C272-FEE1-49C2-A472-CECDCDFFF490}"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33DA3A-5AA8-4974-BD39-59DFBBC02303}"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EB0BA4-4F8B-4385-8B90-32882B5BAFEA}"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1D0370-930D-4496-B0C9-B7CD5FFA666F}"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1A29B0-7B59-4002-8CAA-B114EC2BFE7C}"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BA6F9B-A4E1-4126-965A-1511A9742CAF}"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F36438-2629-439B-A66A-54C21796F7ED}"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5D03EC-E696-4521-A8A4-AF78813DFD81}"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FD3A71-F366-4723-A897-684F6DF9B982}"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468A36-5CC0-4E5B-803E-A3D0A84D3993}"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DBF01B-8CBC-41E1-A5D0-027ACF86F847}"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758FF6-1589-4464-8D83-01F5C48FC601}"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0BF962-E243-466D-9B40-4AC32AAA8C40}"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0535179-D580-49CD-BE72-14F73AA89E8D}"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CC8F17-259A-429B-A69A-13D0ACB1A42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7DFE7C-46AB-43D7-917D-5CB7415212D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BB980B-7A92-40E4-8EBA-83DFC0F1F96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F6EA4C-BFE0-4BAA-AD05-C95F6A63FA3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8DEAD4-F813-4665-A28D-B4C5E9207A6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40329D-3C11-44A6-A0FD-FD852D80B4A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C0D602A-A081-423D-91C2-E7F0FC35E21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F3D187-4664-4C8A-B19C-C0B756B6F8F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E3DF2E-A9C5-4C2B-A8CA-9476ACF0EE5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E8F5CC-DF2C-4AF2-B4DB-D9B2FDAA002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BD73B7-D28E-4D2E-9993-7401663ACB9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3B2BEB-A370-45ED-BF32-F6E91B660C8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F53E14-9EE2-4489-B892-29C423FAF67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325D93-D9EB-48BE-8487-10221E92C4A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2CAAED-1796-4692-BCB4-AE453430EA0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7784A8-23D8-4AD2-8E4D-262B39306F0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5215FA-0921-408E-8098-AA454AD1FC3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D9F313-B157-457E-98E6-81B60D8D670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8C0AA1-12E6-4124-B25B-D1B4C590248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BF2395-9BDA-40E5-BDB4-68DCCEF7D3D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390B2F-6904-4DBF-91A2-1E9F351C616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83BC86-D44F-4038-BBB6-063463EB538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C5BC16-F925-4DBC-83E8-08D774B6336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999268-E834-432B-BD25-D3D55C6E081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09FF8C-F220-44C2-B3E0-499D0D6F9A4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3BCDB1-F9B1-439D-AE12-73316D12229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C5CD68-555D-44EF-B85A-9FC6FC3516B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94610C-CC39-4E16-8737-6A5F335574D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4C6AC3-1578-4175-8228-2FE801F86AB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F695FD-D3B0-4E25-9132-67329839300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4B17D1-298C-4033-AF20-D2535EC40EE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52A3CF-CB0E-4400-A007-2D3B5A3079A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594FE6-6E18-4D3C-BD32-52BD8822A34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1A4FCC-ABE4-485A-8E3F-A9F0FA3CF5F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CA86F8-EA9B-4ABB-B22C-F4AB46B296B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CBEE4E-0640-45D6-BEFB-ED131826490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8C22D6-499D-42F1-98C4-6392BCB0DF6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F6D454-DD42-4279-BDB6-2B4EAE6EAFD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8DC2D6-91C6-434A-9A80-948E7B808E1A}"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1891DA-54CC-4810-BDE7-6706F4FB4B5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41F2BD-D62F-4F23-929B-D47BA048BDD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FFD010-FD83-4106-AA5A-74BE8A46B46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AE457A-AC32-4B0C-967E-6506062A719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CB7779-B497-4606-8AE0-E05A18BA4FB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7CA1F7-3F60-496B-A879-578811FE15B3}"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E9268D-6F42-4F89-A8A8-6A2105D4B81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BABCB1-7F69-4BD4-BD1A-5E796429D6A3}"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1A1F070-383D-4D67-805C-647DE87615E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7DC32E-3850-4D71-B808-0E640AB6EC7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EEA421-BB6B-4882-AFF9-AEACF72116EC}"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1F4C02-BADB-4D43-BE48-FDF3CC0579EA}"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4A2CB1-3C81-4D7B-9544-3BE6D98517C4}"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27CE69-670E-4E16-A1E3-5136A4506D2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EA020E-3097-4D9D-BF7E-EF48B8921CC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4FA286-4C60-442D-9187-AAC977FFBAF0}"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47D450-C416-4B94-BDA0-B62ACF23646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7D7421F-9084-4C4C-ABD2-98BA1212333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C831F1-BB24-4468-9708-18CF3D10AC0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1EE0FD-BF24-4743-AAC6-152FE946123E}"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792F3B-8FAC-47BD-9333-8EE7EC8B84E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9D24A3-C200-4711-AA3B-47D47ABA3A81}"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29A8F9-BA03-4E36-8382-57CEC773F9A8}"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8D44CC-F0C4-4884-B7DE-FBD44B433E5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9E2742-1917-4229-BBC9-9428B4A9FA45}"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668A96-AF46-4542-AE97-151E6932367B}"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4F2F71-8015-434C-93B2-220F7891A89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3FDDF6-C850-487C-87D6-331C317FAAA5}"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B43164-7BB3-4269-8A3A-CFDB2206C2C4}"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7218BD-B512-42F6-87E6-64548A308EF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278628-F231-41F4-8E0C-419E65919C4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21F297-788A-4CF4-B243-B031F91F7DA3}"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A11FFA4-3926-4500-9F63-968D50124A97}"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5AC99E-58F3-4FBA-98F0-335E7CC7BE68}"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EFA919-EDE4-47EE-B963-A12901D9F1E1}"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46FD4B-6D5B-4C35-9356-F3D1B1CD5531}"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7DA35D-AEBF-43F6-AB64-36FB6AA08503}"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FB8881-BFED-42CC-A315-23FF5740E810}"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C2EA62-0C12-4882-AE10-B0908B3012CA}"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62746F-DEE1-4D20-9F35-3383A79FF80D}"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49AA3A-BAB3-4935-AABD-9B65D681101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78DB62-07AC-4C91-AD8C-30B3B0550D1C}"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483277-87C0-474A-BB71-04CB2E49869B}"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AFC081-DE35-4470-AAC6-7D739766F6E8}"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86829F-EA48-4382-9BBD-71BDFC26AFDC}"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588D1F-738D-4D61-9612-86815D36678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