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23E1B-92B0-42F2-AEC8-6871210F0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3D8A-9A02-4F97-808E-E5793522B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1011-6094-4AA5-A7C4-75FE750D2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9EF31-2E9E-402C-B817-2A8CB3278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C989-4B72-4AD1-8E3B-85D4E8A29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FC35D-0DC1-40F0-9CD3-B1F6C70C5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3B01-2094-449A-9674-31AA1B3AA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9862-5FBC-4FD0-8277-A4F45B1FA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B2DD6-A8D6-460C-B5F5-A373EAFFD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BD3B-BA5A-4981-AFB4-491DDD5E8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BF1B-B3E8-4FAA-8220-7D7FA538F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3918-C35F-4327-A2F5-8BFA23118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2E4FD-2A91-46E4-BF78-94229138BB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cherryPyLogoNoBaseline" descr=""/>
          <p:cNvPicPr/>
          <p:nvPr/>
        </p:nvPicPr>
        <p:blipFill>
          <a:blip r:embed="rId1"/>
          <a:stretch/>
        </p:blipFill>
        <p:spPr>
          <a:xfrm>
            <a:off x="3622680" y="1066680"/>
            <a:ext cx="2057400" cy="5605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3819600" y="3809880"/>
            <a:ext cx="166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émi Del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81680" y="2057400"/>
            <a:ext cx="653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herryPy: Dynamic websites with Pyth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356280" y="4495680"/>
            <a:ext cx="25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934720" y="289548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31240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What is CherryPy 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1240" y="2057400"/>
            <a:ext cx="7695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re Python (no C) tool for developing dynamic websi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with python 2.1, 2.2, 2.3, Jyth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uns everywhere python runs (Linux, Windows, …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s like a compil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(.cpy) -&gt; Single executable (.p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urce files use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+ a few extra keywords + templating langu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1295280" y="106668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4572000"/>
            <a:ext cx="50292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cherrypy.py 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remi@boa] python RootServer.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[….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ing HTTP on socket port: 8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440" y="2133720"/>
            <a:ext cx="330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view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“”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040" y="1676520"/>
            <a:ext cx="110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ot.cp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6095880"/>
            <a:ext cx="4170600" cy="459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rowser -&gt; http://localhost:80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3" descr=""/>
          <p:cNvPicPr/>
          <p:nvPr/>
        </p:nvPicPr>
        <p:blipFill>
          <a:blip r:embed="rId2"/>
          <a:stretch/>
        </p:blipFill>
        <p:spPr>
          <a:xfrm>
            <a:off x="4724280" y="213372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738880" y="1219320"/>
            <a:ext cx="3666240" cy="2288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ello, worl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3" descr=""/>
          <p:cNvPicPr/>
          <p:nvPr/>
        </p:nvPicPr>
        <p:blipFill>
          <a:blip r:embed="rId2"/>
          <a:stretch/>
        </p:blipFill>
        <p:spPr>
          <a:xfrm>
            <a:off x="2514600" y="4038480"/>
            <a:ext cx="4191120" cy="2286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cherryPyLogoNoBaseline" descr=""/>
          <p:cNvPicPr/>
          <p:nvPr/>
        </p:nvPicPr>
        <p:blipFill>
          <a:blip r:embed="rId1"/>
          <a:stretch/>
        </p:blipFill>
        <p:spPr>
          <a:xfrm>
            <a:off x="380880" y="30168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220680" y="1219320"/>
            <a:ext cx="5916960" cy="5214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Root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 index(self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xec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a=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,j in [(0,0),(1,0),(2,2)]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m: 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+j+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fo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py-cod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“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mport smtp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if 0==0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                                </a:t>
            </a:r>
            <a:r>
              <a:rPr b="0" lang="en-US" sz="2400" spc="-1" strike="noStrike">
                <a:solidFill>
                  <a:srgbClr val="339933"/>
                </a:solidFill>
                <a:latin typeface="Arial"/>
              </a:rPr>
              <a:t>b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lt;/html&gt;&lt;/body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4" descr=""/>
          <p:cNvPicPr/>
          <p:nvPr/>
        </p:nvPicPr>
        <p:blipFill>
          <a:blip r:embed="rId2"/>
          <a:stretch/>
        </p:blipFill>
        <p:spPr>
          <a:xfrm>
            <a:off x="6477120" y="2514600"/>
            <a:ext cx="2286000" cy="2800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552600" y="838080"/>
            <a:ext cx="8534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ample source file for a dynamic site (also using OOP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28600" y="1523880"/>
            <a:ext cx="5105520" cy="4109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port ti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Design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head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tml&gt;&lt;body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footer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body&gt;&lt;/html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CherryClas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Root(Design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unc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getTime(self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urn time.strftime('%H:%M:%S'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mask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 index(self, myName=“world”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head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lo,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myNam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&lt;b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ime is: 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getTime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rm action=“index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ter your name: &lt;input type=text name=myNa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input type=submit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/for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py-eva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=“</a:t>
            </a:r>
            <a:r>
              <a:rPr b="0" lang="en-US" sz="1200" spc="-1" strike="noStrike">
                <a:solidFill>
                  <a:srgbClr val="339933"/>
                </a:solidFill>
                <a:latin typeface="Arial"/>
              </a:rPr>
              <a:t>self.footer(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”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5" descr=""/>
          <p:cNvPicPr/>
          <p:nvPr/>
        </p:nvPicPr>
        <p:blipFill>
          <a:blip r:embed="rId2"/>
          <a:stretch/>
        </p:blipFill>
        <p:spPr>
          <a:xfrm>
            <a:off x="5486400" y="2514600"/>
            <a:ext cx="3505320" cy="25495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2209680" y="762120"/>
            <a:ext cx="485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Key properties of CherryP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900800" y="1295280"/>
            <a:ext cx="4885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verything we love about Python is still ther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ean synta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werful constructs. ex: for i,j in [(0,0),(1,2)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O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ndard libra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 unneeded extra code in the source fi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ry fast (thanks to compiler approach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Easy to deploy (just one fil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80880" y="3916440"/>
            <a:ext cx="853452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all the features you would expect from a serious application serve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8680" y="4368960"/>
            <a:ext cx="62517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atabase connectiv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n be run behind another webserver (Apache, …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Load-balanc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acheing, Sessions, Http and cookie-based authentication, Form handl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XML-R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 server supports SSL, threading, forking, process pooling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ood docu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066680" y="6278400"/>
            <a:ext cx="70106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Times New Roman"/>
              </a:rPr>
              <a:t>+ can be used as an XML/XSL framework if you wa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cherryPyLogoNoBaseline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2057400" cy="5601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3131640" y="1673280"/>
            <a:ext cx="2707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Questions 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2878920" y="3470400"/>
            <a:ext cx="321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mi@cherrypy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6-20T10:06:14Z</dcterms:created>
  <dc:creator>Rémi</dc:creator>
  <dc:description/>
  <dc:language>en-US</dc:language>
  <cp:lastModifiedBy>RemiD</cp:lastModifiedBy>
  <dcterms:modified xsi:type="dcterms:W3CDTF">2003-07-09T16:41:46Z</dcterms:modified>
  <cp:revision>22</cp:revision>
  <dc:subject/>
  <dc:title>Présentation PowerPoint</dc:title>
</cp:coreProperties>
</file>